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meepmeep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FDA-0241-43D6-B1E6-92726E74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DF7-5253-4241-8537-307ABA63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AF0-59CD-4F4D-AF3B-64E6B655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530-793B-4629-B5BD-9367856D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68A-FC95-4862-B39E-19F466B6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541-4F51-45A1-B552-2415F6D1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521-7FBE-49D3-A86D-8991983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BE2-CF5C-4B08-9C72-A64C064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B87-5CDB-4DAE-9A54-50B14EE7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9A3-2926-470B-9E93-E3BFEB0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FDB-6793-4308-B963-9AE358A7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441-EA1A-4694-8922-BF20CC6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FCB-9114-44F4-8E15-6AC5FA7F4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ipdn102.wav"/><Relationship Id="rId10" Type="http://schemas.openxmlformats.org/officeDocument/2006/relationships/audio" Target="../media/meepmeep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meepmeep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ipdn102.wav"/><Relationship Id="rId14" Type="http://schemas.openxmlformats.org/officeDocument/2006/relationships/audio" Target="../media/meepmeep.wav"/><Relationship Id="rId15" Type="http://schemas.openxmlformats.org/officeDocument/2006/relationships/audio" Target="../media/meepmeep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ipdn102.wav"/><Relationship Id="rId14" Type="http://schemas.openxmlformats.org/officeDocument/2006/relationships/audio" Target="../media/meepmeep.wav"/><Relationship Id="rId15" Type="http://schemas.openxmlformats.org/officeDocument/2006/relationships/audio" Target="../media/meepmeep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041800" y="2746440"/>
                <a:ext cx="2052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559480" y="4352760"/>
                <a:ext cx="1019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69880" y="1427040"/>
                <a:ext cx="852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494000" y="1492200"/>
            <a:ext cx="2249280" cy="1525680"/>
          </a:xfrm>
          <a:prstGeom prst="cube">
            <a:avLst>
              <a:gd name="adj" fmla="val 53874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76520" y="3021120"/>
                <a:ext cx="1127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405240" y="2433600"/>
                <a:ext cx="1168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4920" y="2395440"/>
                <a:ext cx="1168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" name=""/>
          <p:cNvGrpSpPr/>
          <p:nvPr/>
        </p:nvGrpSpPr>
        <p:grpSpPr>
          <a:xfrm>
            <a:off x="4935600" y="1335240"/>
            <a:ext cx="3454200" cy="1612080"/>
            <a:chOff x="4935600" y="1335240"/>
            <a:chExt cx="3454200" cy="1612080"/>
          </a:xfrm>
        </p:grpSpPr>
        <p:sp>
          <p:nvSpPr>
            <p:cNvPr id="51" name=""/>
            <p:cNvSpPr/>
            <p:nvPr/>
          </p:nvSpPr>
          <p:spPr>
            <a:xfrm>
              <a:off x="4935600" y="175608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83000" y="133524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45120" y="137160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454720" y="3540240"/>
                <a:ext cx="131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710400" y="4248000"/>
                <a:ext cx="906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94360" y="2746440"/>
                <a:ext cx="19479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59480" y="4325760"/>
                <a:ext cx="101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47560" y="1427040"/>
                <a:ext cx="89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494000" y="1492200"/>
            <a:ext cx="1974600" cy="1860480"/>
          </a:xfrm>
          <a:prstGeom prst="cube">
            <a:avLst>
              <a:gd name="adj" fmla="val 27388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77960" y="338292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97160" y="291312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2840" y="2324160"/>
                <a:ext cx="1209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481720" y="3540240"/>
                <a:ext cx="126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4640" y="4218120"/>
                <a:ext cx="10764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951440" y="1212840"/>
            <a:ext cx="3454200" cy="1612080"/>
            <a:chOff x="4951440" y="1212840"/>
            <a:chExt cx="3454200" cy="1612080"/>
          </a:xfrm>
        </p:grpSpPr>
        <p:sp>
          <p:nvSpPr>
            <p:cNvPr id="68" name=""/>
            <p:cNvSpPr/>
            <p:nvPr/>
          </p:nvSpPr>
          <p:spPr>
            <a:xfrm>
              <a:off x="4951440" y="163368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8840" y="121284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60960" y="124920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680080" y="2644920"/>
                <a:ext cx="20541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226200" y="4224240"/>
                <a:ext cx="961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47560" y="1427040"/>
                <a:ext cx="89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20760" y="2192400"/>
                <a:ext cx="3255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dth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89080" y="2906640"/>
                <a:ext cx="3340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of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01680" y="1479600"/>
                <a:ext cx="3379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ight of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19640" y="3438360"/>
                <a:ext cx="12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191360" y="4102200"/>
                <a:ext cx="10764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812880" y="4862520"/>
            <a:ext cx="1684080" cy="84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6840" y="4245120"/>
            <a:ext cx="1684080" cy="84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12880" y="423828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33400" y="507168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7840" y="424476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517840" y="507312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194440" y="984240"/>
            <a:ext cx="3454200" cy="1612080"/>
            <a:chOff x="5194440" y="984240"/>
            <a:chExt cx="3454200" cy="1612080"/>
          </a:xfrm>
        </p:grpSpPr>
        <p:sp>
          <p:nvSpPr>
            <p:cNvPr id="88" name=""/>
            <p:cNvSpPr/>
            <p:nvPr/>
          </p:nvSpPr>
          <p:spPr>
            <a:xfrm>
              <a:off x="5194440" y="140508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41840" y="98424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03960" y="102060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19360" y="4387680"/>
            <a:ext cx="987480" cy="84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680080" y="2670120"/>
                <a:ext cx="2054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451560" y="4238640"/>
                <a:ext cx="566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7560" y="1427040"/>
                <a:ext cx="89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62160" y="2192400"/>
                <a:ext cx="3173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dth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30480" y="2906640"/>
                <a:ext cx="3257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43080" y="1479600"/>
                <a:ext cx="3297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ight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94440" y="3465360"/>
                <a:ext cx="1312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004160" y="4176720"/>
                <a:ext cx="9842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09840" y="4862520"/>
            <a:ext cx="987120" cy="84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95440" y="4400280"/>
            <a:ext cx="1104840" cy="46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05240" y="4406760"/>
            <a:ext cx="1104840" cy="46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531800" y="5233680"/>
            <a:ext cx="1105200" cy="46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17840" y="5235120"/>
            <a:ext cx="1104840" cy="46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361120" y="1060560"/>
            <a:ext cx="3454200" cy="1612080"/>
            <a:chOff x="5361120" y="1060560"/>
            <a:chExt cx="3454200" cy="1612080"/>
          </a:xfrm>
        </p:grpSpPr>
        <p:sp>
          <p:nvSpPr>
            <p:cNvPr id="108" name=""/>
            <p:cNvSpPr/>
            <p:nvPr/>
          </p:nvSpPr>
          <p:spPr>
            <a:xfrm>
              <a:off x="5361120" y="148140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8520" y="106056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0640" y="109692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63836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9, 3 – 9 #1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9-21T19:07:05Z</dcterms:modified>
  <cp:revision>74</cp:revision>
  <dc:subject/>
  <dc:title>Slide 1</dc:title>
</cp:coreProperties>
</file>